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C6D-C6E8-4918-8C31-54372CFD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AE6-07E7-4197-A5DC-77050B5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4CB-1AAB-4F79-AB02-C0222C0C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172-9195-4F6A-888A-E1EAD88C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6C9-49FB-4A69-8A66-C20A98D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C04-648B-4B34-BF3E-73F77C86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C70-B156-4D09-9DC5-8FC22171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CE8-57B1-4B6E-87D2-3D98E22C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476-3EF0-4C2F-B50C-A097A30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A25-A84F-49D8-BCC2-6270B97D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0F0-223B-4552-A3A6-75CE613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B7F-81D8-4746-8343-5D8F356C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D11B-CAEA-47BB-A4CC-9C9B8AB8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400480" cy="47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-2773440" y="-747720"/>
          <a:ext cx="12457080" cy="60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73440" y="-747720"/>
                    <a:ext cx="1245708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9320" y="5105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52680" y="189000"/>
            <a:ext cx="19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M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0 kto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6200" y="5516640"/>
            <a:ext cx="254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LA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 kton liquid ar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39280" y="3500280"/>
            <a:ext cx="19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 kt scint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1080" y="43657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916360" y="4941720"/>
          <a:ext cx="331128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941720"/>
                    <a:ext cx="331128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5:41:24Z</dcterms:created>
  <dc:creator>Luigi Mosca</dc:creator>
  <dc:description/>
  <dc:language>en-US</dc:language>
  <cp:lastModifiedBy>csspier</cp:lastModifiedBy>
  <dcterms:modified xsi:type="dcterms:W3CDTF">2008-09-04T09:42:11Z</dcterms:modified>
  <cp:revision>9</cp:revision>
  <dc:subject/>
  <dc:title>Présentation PowerPoint</dc:title>
</cp:coreProperties>
</file>